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77BB-AD11-4FC8-BCDF-04AF5E15F8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4841-405E-477F-BCB4-04B4BFE128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AC1D-E3F4-4391-BC2B-21B66FE1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6D0E-594A-4336-ABEF-B91D68E5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6BA-E688-4A14-B0BA-93F0F235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4D2F-3068-4D09-A102-0BA5F1C6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D69-96EF-4938-A937-37548AA2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6714-1495-4E2C-8787-12FBB5F2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A813-CC4D-4AB9-8CFA-335F6E45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B50-4C35-4E30-AC17-D0632928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628-C12D-44EC-8CDE-7C4FA21C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90A-9371-49B5-8569-30795CC5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05B-D5C1-49F8-85CA-2B946A60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387-3DFC-4520-A61E-83949133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5501-77D3-461E-8461-CB1388A909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78;&#1077;&#1089;&#1090;&#1099;.pptx" TargetMode="External"/><Relationship Id="rId3" Type="http://schemas.openxmlformats.org/officeDocument/2006/relationships/image" Target="../media/image3.png"/><Relationship Id="rId4" Type="http://schemas.openxmlformats.org/officeDocument/2006/relationships/hyperlink" Target="file:///&#1055;&#1088;&#1080;&#1074;&#1077;&#1090;&#1089;&#1090;&#1074;&#1080;&#1077;.pptx" TargetMode="External"/><Relationship Id="rId5" Type="http://schemas.openxmlformats.org/officeDocument/2006/relationships/slide" Target="slide5.xml"/><Relationship Id="rId6" Type="http://schemas.openxmlformats.org/officeDocument/2006/relationships/hyperlink" Target="http://upload.wikimedia.org/wikipedia/commons/2/2b/AleksandrPushkin.jpg" TargetMode="External"/><Relationship Id="rId7" Type="http://schemas.openxmlformats.org/officeDocument/2006/relationships/image" Target="../media/image4.png"/><Relationship Id="rId8" Type="http://schemas.openxmlformats.org/officeDocument/2006/relationships/hyperlink" Target="file:///&#1044;&#1091;&#1073;&#1088;&#1086;&#1074;&#1089;&#1082;&#1080;&#1081;.ppt" TargetMode="External"/><Relationship Id="rId9" Type="http://schemas.openxmlformats.org/officeDocument/2006/relationships/hyperlink" Target="file:///&#1044;&#1091;&#1073;&#1088;&#1086;&#1074;&#1089;&#1082;&#1080;&#1081;.ppt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&#1040;&#1093;&#1080;&#1083;&#1083;&#1077;&#1089;&#1086;&#1074;&#1072;%20&#1087;&#1103;&#1090;&#1072;%20&#1083;&#1086;&#1089;&#1082;&#1091;&#1090;&#1085;&#1080;&#1082;&#1086;&#1074;.pptx" TargetMode="External"/><Relationship Id="rId3" Type="http://schemas.openxmlformats.org/officeDocument/2006/relationships/image" Target="../media/image6.png"/><Relationship Id="rId4" Type="http://schemas.openxmlformats.org/officeDocument/2006/relationships/hyperlink" Target="file:///&#1043;&#1086;&#1088;&#1076;&#1080;&#1077;&#1074;%20&#1091;&#1079;&#1077;&#1083;%20&#1082;&#1086;&#1079;&#1091;&#1083;&#1080;&#1085;.ppt" TargetMode="External"/><Relationship Id="rId5" Type="http://schemas.openxmlformats.org/officeDocument/2006/relationships/image" Target="../media/image7.png"/><Relationship Id="rId6" Type="http://schemas.openxmlformats.org/officeDocument/2006/relationships/hyperlink" Target="file:///&#1082;&#1086;&#1083;&#1077;&#1089;&#1086;%20&#1092;&#1086;&#1088;&#1090;&#1091;&#1085;&#1099;%20&#1041;&#1099;&#1082;&#1086;&#1074;&#1072;.ppt" TargetMode="External"/><Relationship Id="rId7" Type="http://schemas.openxmlformats.org/officeDocument/2006/relationships/hyperlink" Target="http://ru.wikipedia.org/wiki/&#1060;&#1072;&#1081;&#1083;:Nicolas_R&#233;gnier_-_Allegory_of_Vanity_(Pandora).JPG" TargetMode="External"/><Relationship Id="rId8" Type="http://schemas.openxmlformats.org/officeDocument/2006/relationships/image" Target="../media/image8.png"/><Relationship Id="rId9" Type="http://schemas.openxmlformats.org/officeDocument/2006/relationships/hyperlink" Target="file:///&#1071;&#1097;&#1080;&#1082;%20&#1055;&#1072;&#1085;&#1076;&#1086;&#1088;&#1099;&#1042;&#1077;&#1088;&#1093;&#1091;&#1096;&#1080;&#1085;.ppt" TargetMode="External"/><Relationship Id="rId10" Type="http://schemas.openxmlformats.org/officeDocument/2006/relationships/image" Target="../media/image9.png"/><Relationship Id="rId11" Type="http://schemas.openxmlformats.org/officeDocument/2006/relationships/hyperlink" Target="file:///&#1044;&#1074;&#1091;&#1083;&#1080;&#1082;&#1080;&#1081;%20&#1071;&#1085;&#1091;&#1089;&#1047;&#1086;&#1083;&#1086;&#1090;&#1072;&#1088;&#1077;&#1074;.pptx" TargetMode="External"/><Relationship Id="rId12" Type="http://schemas.openxmlformats.org/officeDocument/2006/relationships/image" Target="../media/image10.png"/><Relationship Id="rId13" Type="http://schemas.openxmlformats.org/officeDocument/2006/relationships/hyperlink" Target="file:///&#1082;&#1088;&#1072;&#1089;&#1072;&#1074;&#1080;&#1094;&#1072;-&#1084;&#1072;&#1090;&#1088;&#1077;&#1096;&#1082;&#1072;.pptx" TargetMode="External"/><Relationship Id="rId14" Type="http://schemas.openxmlformats.org/officeDocument/2006/relationships/image" Target="../media/image11.png"/><Relationship Id="rId15" Type="http://schemas.openxmlformats.org/officeDocument/2006/relationships/hyperlink" Target="file:///&#1078;&#1086;&#1089;&#1090;&#1086;&#1074;&#1089;&#1082;&#1072;&#1103;%20&#1088;&#1086;&#1089;&#1087;&#1080;&#1089;&#1100;.pptx" TargetMode="External"/><Relationship Id="rId16" Type="http://schemas.openxmlformats.org/officeDocument/2006/relationships/image" Target="../media/image12.png"/><Relationship Id="rId17" Type="http://schemas.openxmlformats.org/officeDocument/2006/relationships/hyperlink" Target="file:///&#1089;&#1080;&#1085;&#1100;%20&#1056;&#1086;&#1089;&#1089;&#1080;&#1080;.pptx" TargetMode="External"/><Relationship Id="rId18" Type="http://schemas.openxmlformats.org/officeDocument/2006/relationships/hyperlink" Target="http://mediapark.com.ua/img.php?type=p&amp;src=v_people_4179_10646.jpg&amp;name=Tat&apos;yana_Lavrova" TargetMode="External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-285840" y="420840"/>
            <a:ext cx="943632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блема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7168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быстрее ориентироваться ученику и учителю в информационном материа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Цель : создание сборника электронных пособий к урокам русского языка и литератур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апы реализаци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Подготовительный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бор презентац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Основной этап 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истематизация по группам и папка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здание электронного сбор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Заключительный этап 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зентация сбор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14200" y="1295280"/>
          <a:ext cx="8715600" cy="5562720"/>
        </p:xfrm>
        <a:graphic>
          <a:graphicData uri="http://schemas.openxmlformats.org/drawingml/2006/table">
            <a:tbl>
              <a:tblPr/>
              <a:tblGrid>
                <a:gridCol w="2976840"/>
                <a:gridCol w="2976480"/>
                <a:gridCol w="2762280"/>
              </a:tblGrid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о я дела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гда я это дела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кем дела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56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програ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D POWER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 –май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анова С.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цкая О.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презентаций к урок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 м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играева ЮКорецкая О.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анова С.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банка презентаций своих и однокласс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 –м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играева Ю., Корецкая О.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5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тизация по папка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 –ма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играева 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5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электронного сборн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 -м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играева Ю., Корецкая О.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6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ентация сборника на школьной и районной конферен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играева Ю, Корецкая О.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2" name="TextBox 3"/>
          <p:cNvSpPr/>
          <p:nvPr/>
        </p:nvSpPr>
        <p:spPr>
          <a:xfrm>
            <a:off x="2714760" y="57168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 реализации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жидаем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lvl="3" marL="1119960" indent="-15984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сборника электронных пособ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интересованность моих одноклассников в продолжении данного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мен электронными пособиями между учениками раз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олнение банка пособ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интереса к изучению своего я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грамотной речи у уча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ершенствование умений работы с источниками информации и освоение новых компьютерных программ в помощь ученику и учител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004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 К урокам риторики литера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К урокам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E:\Documents and Settings\Администратор\Рабочий стол\Катя ненаших\TYC83CAODUU3NCADGA78WCAIXYFOYCAF3D3S7CA3A97RRCA9QL2S2CAQ16QIDCAMCE1F3CA407CZACAH8FDU0CATN6V59CAE92ZZ6CASPNS0FCA9F8RWTCA0E9AOOCA5O46CSCANSI4UFCANSY8OS.jpg"/>
          <p:cNvPicPr/>
          <p:nvPr/>
        </p:nvPicPr>
        <p:blipFill>
          <a:blip r:embed="rId1"/>
          <a:stretch/>
        </p:blipFill>
        <p:spPr>
          <a:xfrm>
            <a:off x="1920960" y="853920"/>
            <a:ext cx="3084480" cy="308484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642960" y="285768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же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D:\вика быкова\politness1[1].jpg"/>
          <p:cNvPicPr/>
          <p:nvPr/>
        </p:nvPicPr>
        <p:blipFill>
          <a:blip r:embed="rId3"/>
          <a:stretch/>
        </p:blipFill>
        <p:spPr>
          <a:xfrm>
            <a:off x="1066680" y="3638520"/>
            <a:ext cx="2225880" cy="2811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3214800" y="42148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привет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Управляющая кнопка: домой 8">
            <a:hlinkClick r:id="rId5" action="ppaction://hlinksldjump"/>
          </p:cNvPr>
          <p:cNvSpPr/>
          <p:nvPr/>
        </p:nvSpPr>
        <p:spPr>
          <a:xfrm>
            <a:off x="8501040" y="614376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12153" y="3837"/>
                </a:moveTo>
                <a:lnTo>
                  <a:pt x="14730" y="6448"/>
                </a:ln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lnTo>
                  <a:pt x="19116" y="10800"/>
                </a:lnTo>
                <a:lnTo>
                  <a:pt x="17463" y="10800"/>
                </a:lnTo>
                <a:lnTo>
                  <a:pt x="17463" y="17989"/>
                </a:lnTo>
                <a:lnTo>
                  <a:pt x="6844" y="17989"/>
                </a:lnTo>
                <a:lnTo>
                  <a:pt x="6844" y="10800"/>
                </a:lnTo>
                <a:lnTo>
                  <a:pt x="5190" y="10800"/>
                </a:lnTo>
                <a:close/>
              </a:path>
              <a:path fill="darkenLess" w="24307" h="21600">
                <a:moveTo>
                  <a:pt x="14730" y="6448"/>
                </a:moveTo>
                <a:lnTo>
                  <a:pt x="14730" y="4707"/>
                </a:lnTo>
                <a:lnTo>
                  <a:pt x="16505" y="4707"/>
                </a:lnTo>
                <a:lnTo>
                  <a:pt x="16505" y="8224"/>
                </a:lnTo>
                <a:close/>
              </a:path>
              <a:path fill="darkenLess" w="24307" h="21600">
                <a:moveTo>
                  <a:pt x="11231" y="14299"/>
                </a:moveTo>
                <a:lnTo>
                  <a:pt x="13076" y="14299"/>
                </a:lnTo>
                <a:lnTo>
                  <a:pt x="13076" y="17989"/>
                </a:lnTo>
                <a:lnTo>
                  <a:pt x="17463" y="17989"/>
                </a:lnTo>
                <a:lnTo>
                  <a:pt x="17463" y="10800"/>
                </a:lnTo>
                <a:lnTo>
                  <a:pt x="6844" y="10800"/>
                </a:lnTo>
                <a:lnTo>
                  <a:pt x="6844" y="17989"/>
                </a:lnTo>
                <a:lnTo>
                  <a:pt x="11231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1857240" y="500040"/>
            <a:ext cx="57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урокам риторики и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Картинка 4 из 37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65600" y="993600"/>
            <a:ext cx="2865600" cy="35229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0"/>
          <p:cNvSpPr/>
          <p:nvPr/>
        </p:nvSpPr>
        <p:spPr>
          <a:xfrm>
            <a:off x="5643720" y="542916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 Тесты по роману Пушк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« Дубровск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7034040" y="1146240"/>
            <a:ext cx="1908360" cy="142560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7143840" y="35712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хиллесова п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3"/>
          <a:stretch/>
        </p:blipFill>
        <p:spPr>
          <a:xfrm>
            <a:off x="3664080" y="1158840"/>
            <a:ext cx="1749240" cy="148104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3794040" y="71424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Гордиев уз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http://www.eurosuvenir.ru/products_pictures/S-84-S-NO.jpg"/>
          <p:cNvPicPr/>
          <p:nvPr/>
        </p:nvPicPr>
        <p:blipFill>
          <a:blip r:embed="rId5"/>
          <a:stretch/>
        </p:blipFill>
        <p:spPr>
          <a:xfrm>
            <a:off x="1616040" y="1066680"/>
            <a:ext cx="1981080" cy="18417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9"/>
          <p:cNvSpPr/>
          <p:nvPr/>
        </p:nvSpPr>
        <p:spPr>
          <a:xfrm>
            <a:off x="1883520" y="71424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Колесо Форту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0" descr="http://upload.wikimedia.org/wikipedia/commons/thumb/9/9e/Nicolas_R%C3%A9gnier_-_Allegory_of_Vanity_%28Pandora%29.JPG/180px-Nicolas_R%C3%A9gnier_-_Allegory_of_Vanity_%28Pandora%29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7400" y="1238400"/>
            <a:ext cx="1693800" cy="14810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1"/>
          <p:cNvSpPr/>
          <p:nvPr/>
        </p:nvSpPr>
        <p:spPr>
          <a:xfrm>
            <a:off x="5536080" y="71424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Ящик Панд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0"/>
          <a:stretch/>
        </p:blipFill>
        <p:spPr>
          <a:xfrm>
            <a:off x="60480" y="762120"/>
            <a:ext cx="1847520" cy="16999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3"/>
          <p:cNvSpPr/>
          <p:nvPr/>
        </p:nvSpPr>
        <p:spPr>
          <a:xfrm>
            <a:off x="26280" y="228600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двуликий ян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урокам русского язы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Японская матрешка"/>
          <p:cNvPicPr/>
          <p:nvPr/>
        </p:nvPicPr>
        <p:blipFill>
          <a:blip r:embed="rId12"/>
          <a:stretch/>
        </p:blipFill>
        <p:spPr>
          <a:xfrm>
            <a:off x="-6480" y="2779560"/>
            <a:ext cx="1481400" cy="21942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6"/>
          <p:cNvSpPr/>
          <p:nvPr/>
        </p:nvSpPr>
        <p:spPr>
          <a:xfrm>
            <a:off x="1357200" y="29289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Как появилась матре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гж"/>
          <p:cNvPicPr/>
          <p:nvPr/>
        </p:nvPicPr>
        <p:blipFill>
          <a:blip r:embed="rId14"/>
          <a:stretch/>
        </p:blipFill>
        <p:spPr>
          <a:xfrm>
            <a:off x="1994040" y="3492360"/>
            <a:ext cx="1962000" cy="15670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8"/>
          <p:cNvSpPr/>
          <p:nvPr/>
        </p:nvSpPr>
        <p:spPr>
          <a:xfrm>
            <a:off x="6072120" y="257184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Жостовская  рос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6"/>
          <a:stretch/>
        </p:blipFill>
        <p:spPr>
          <a:xfrm>
            <a:off x="4791240" y="3090960"/>
            <a:ext cx="1969920" cy="26334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0"/>
          <p:cNvSpPr/>
          <p:nvPr/>
        </p:nvSpPr>
        <p:spPr>
          <a:xfrm>
            <a:off x="3502800" y="2857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Синь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Картинка 2 из 3297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353880" y="4780080"/>
            <a:ext cx="1103400" cy="1657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1143000" y="64580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ть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Картинка 2 из 2327"/>
          <p:cNvPicPr/>
          <p:nvPr/>
        </p:nvPicPr>
        <p:blipFill>
          <a:blip r:embed="rId20"/>
          <a:stretch/>
        </p:blipFill>
        <p:spPr>
          <a:xfrm>
            <a:off x="2066760" y="4992840"/>
            <a:ext cx="1365480" cy="1511280"/>
          </a:xfrm>
          <a:prstGeom prst="rect">
            <a:avLst/>
          </a:prstGeom>
          <a:ln w="0">
            <a:noFill/>
          </a:ln>
        </p:spPr>
      </p:pic>
      <p:sp>
        <p:nvSpPr>
          <p:cNvPr id="85" name="TextBox 13"/>
          <p:cNvSpPr/>
          <p:nvPr/>
        </p:nvSpPr>
        <p:spPr>
          <a:xfrm>
            <a:off x="2571840" y="64882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E:\Documents and Settings\Администратор\Рабочий стол\Юля З\Юлия Савичева.jpg"/>
          <p:cNvPicPr/>
          <p:nvPr/>
        </p:nvPicPr>
        <p:blipFill>
          <a:blip r:embed="rId21"/>
          <a:stretch/>
        </p:blipFill>
        <p:spPr>
          <a:xfrm>
            <a:off x="7066080" y="2706840"/>
            <a:ext cx="2084400" cy="1755720"/>
          </a:xfrm>
          <a:prstGeom prst="rect">
            <a:avLst/>
          </a:prstGeom>
          <a:ln w="0">
            <a:noFill/>
          </a:ln>
        </p:spPr>
      </p:pic>
      <p:sp>
        <p:nvSpPr>
          <p:cNvPr id="87" name="TextBox 16"/>
          <p:cNvSpPr/>
          <p:nvPr/>
        </p:nvSpPr>
        <p:spPr>
          <a:xfrm>
            <a:off x="7786800" y="46432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Увеличенное изображение"/>
          <p:cNvPicPr/>
          <p:nvPr/>
        </p:nvPicPr>
        <p:blipFill>
          <a:blip r:embed="rId22"/>
          <a:stretch/>
        </p:blipFill>
        <p:spPr>
          <a:xfrm>
            <a:off x="3638520" y="4352760"/>
            <a:ext cx="1744560" cy="17733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30"/>
          <p:cNvSpPr/>
          <p:nvPr/>
        </p:nvSpPr>
        <p:spPr>
          <a:xfrm>
            <a:off x="4143240" y="614376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3"/>
          <a:stretch/>
        </p:blipFill>
        <p:spPr>
          <a:xfrm>
            <a:off x="5778360" y="4780080"/>
            <a:ext cx="1792440" cy="17240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2"/>
          <p:cNvSpPr/>
          <p:nvPr/>
        </p:nvSpPr>
        <p:spPr>
          <a:xfrm flipH="1">
            <a:off x="7571520" y="607212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с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0-09-24T07:44:19Z</dcterms:modified>
  <cp:revision>83</cp:revision>
  <dc:subject/>
  <dc:title>Слайд 1</dc:title>
</cp:coreProperties>
</file>